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F3F1-4682-4179-B63B-FD13C5DD4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43A3-23C0-4AE7-848B-4A3AEE729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CC7D-35CF-425F-8AA7-2AF0F5AAA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BBE2-37F3-4220-B3B9-2A18507CF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8703-AF87-4CFE-A2F1-C4A98C3F3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7D31-7B1E-4725-A9D2-4B1B44FEA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8AD1-C787-4139-AFC3-E2C71AC5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0C57-A4F9-4D1B-B9A0-43CD4200D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6D56-E828-4873-B390-9737D728E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6C54-F824-4D94-9DCE-F286F8AD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CB59-FF29-49CE-AA1A-783003B6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B5A6-2BBF-4C0C-8D03-1B95C565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706C3-47C1-4A99-AAEC-D3E7B6C35A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504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Что? Где? Когд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https://psv4.userapi.com/c235031/u8334488/docs/d43/7df4ca68b4f8/Viktorina_Podvig_uchitelstva.jpg?extra=bOkdtXJ2xlQItq9bFi0gNSxfKhOhIvlRwiX6q5_HW-yrIuyqJOyfNsdtw4pF4Hv0O-fBDFV9-vWSLLWJeYX9Qb89eB9FjiQOEAR52tMi4vWzuQGr3ni159hxwr32cqf6JeUn9bEjIjU-l6xeGMZ4"/>
          <p:cNvPicPr/>
          <p:nvPr/>
        </p:nvPicPr>
        <p:blipFill>
          <a:blip r:embed="rId1"/>
          <a:stretch/>
        </p:blipFill>
        <p:spPr>
          <a:xfrm>
            <a:off x="755640" y="987480"/>
            <a:ext cx="77709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прос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08000" y="987480"/>
            <a:ext cx="89280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наменитый педагог XVII века Ян Амос Коменский был первым, кто, идя в ногу с техническим прогрессом, стал использовать это в учебниках, причем по всем предметам, ибо это, по его — совершенно обоснованному — мнению, сильно облегчает усвоение и понимание любого учебного материала. А позже использование этого и вовсе вошло в историю как «золотое правило дидактики». О чем идет речь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прос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08000" y="987480"/>
            <a:ext cx="89280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вестный педагог  А.С. Макаренко описывает историю одного сердобольного мальчика. Он очень переживал за свою игрушку, потому что ему казалось, что она никогда не может уснуть. Заботясь о ее здоровье, мальчик периодически клал ей на голову тяжелые предметы. Назовите, что это за игруш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прос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асилий Жуковский сравнивал воспитание детей с написанием поэтического произведения. Такое произведение он называл сочетанием из двух слов, начинающихся на одну и ту же букву. Напишите это словосочетание, ставшее в тридцатых годах двадцатого века названием знаменитой книги по педагогик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прос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Древнем Риме — учитель, обучающий детей азам языкознания — грамматик, учитель чтения — литератор, раб, сопровождающий детей в школу и из школы — педагог. А как в Древнем Риме называли учителя арифметик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прос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середине 70-х молодой советский учитель позволил себе вольность в своем внешнем виде. Точнее  - отрастил бородку.  В результате чего заслужил выговор от начальства. «На кого ты равняешься! — кричал директор. — На аполитичных стиляг?». «Нет, на него», — невозмутимо ответил учитель и указал на портрет, висящий на стене. Чей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прос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гда несколько столетий назад появился танец «вальс», многие заметили, что он был гораздо проще популярных тогда танцев, т.к. состоял из очень простых и легко запоминающихся движений. Новый танец стали осуждать не только по моральным соображениям. Первыми, кто выступили против, стали, как ни странно, учителя танцев. Почему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прос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08576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вестно, что пророка Моисея иудеи именуют Моше Рабейну, то есть Учитель, Наставник. А юморист Михаил Векслер выразил это в афоризме: «Моисей — всем евреям ...!». Закончите этот афоризм одним иностранным, но далеким от Израиля, словом, синонимом слова «учитель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прос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085760"/>
            <a:ext cx="8229600" cy="37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едставители особой субкультуры хиппи или стиляг, распространённой в советское время, любили переделывать привычные нам имена и фамилии на иностранный манер. Так, например, Анна могла стать Энн, а Борис – Боб. Кроме того, они стали называть фамилии известных людей – а именно, Владимира Ильина Ленина и педагога Антона Семеновича Макаренко – фамилиями двух чрезвычайно известных в то время англичан. Нам неизвестно, встречались ли когда-то Макаренко и Ленин. Чего нельзя сказать об этих англичанах, ведь они вместе играли в одной популярной группе. Назовите эту групп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прос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07640" y="987480"/>
            <a:ext cx="5327640" cy="37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д вами изображение купюры в тысячу итальянских лир, на которой находится ребенок. На обратной стороне данной купюры изображена женщина, выдающийся педагог, единственная женщина, включенная в 1988 году ЮНЕСКО в список из четырех человек, определивших способы педагогического мышления в XX веке. В соответствии с её принципом, в центре педагогической системы, как и на изображении купюры, находится ребенок. Назовите фамилию женщин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3" descr=""/>
          <p:cNvPicPr/>
          <p:nvPr/>
        </p:nvPicPr>
        <p:blipFill>
          <a:blip r:embed="rId1"/>
          <a:stretch/>
        </p:blipFill>
        <p:spPr>
          <a:xfrm>
            <a:off x="5292720" y="1779480"/>
            <a:ext cx="371484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прос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08000" y="987480"/>
            <a:ext cx="89280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опрос состоит из двух истори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. В заставке американского мультсериала «Симпсоны» демонстрируется очень популярное в западных школах наказание – а именно написание оной и той же фразы на доске много раз, чтобы лучше ее запомнит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. Бянг — это блюдо из лапши, подаваемое в китайской провинции Шэньси. _______ Бянг состоит из 56 компонентов и считается одним из самых сложных, поэтому педагог Ванг СижУн использовал его для наказания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няв, как связаны эти две истории, напишите, какое слово мы пропустили в предыдущем предложении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2T09:07:49Z</dcterms:created>
  <dc:creator>zerkalo</dc:creator>
  <dc:description/>
  <dc:language>en-US</dc:language>
  <cp:lastModifiedBy>ALFA</cp:lastModifiedBy>
  <dcterms:modified xsi:type="dcterms:W3CDTF">2023-01-25T18:18:37Z</dcterms:modified>
  <cp:revision>135</cp:revision>
  <dc:subject/>
  <dc:title>Слайд 1</dc:title>
</cp:coreProperties>
</file>